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A910-1010-45E4-A6F8-DDAEA5DEC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2A52-F333-4899-835D-93EE44869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16E4-91BB-4877-BF12-AA9E179AA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F30E-55AC-4602-961B-A48242804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7F6A6-6861-48F0-B7FD-444E88070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6A0A7-F942-4AF2-9274-0AED66076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FC7C7-07F1-4382-8B1B-15DC29CBC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99FC1-FEDD-4234-A0F1-C13F05F27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32FF5-2326-4E37-9A39-6A405C445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4ADE7-E79D-4D21-9C7A-A2751DC1F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07C58-1639-476E-AC57-48C4B413C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3B43-CEF1-405C-9A82-1ADCABCF3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77534-AB02-4BE3-9406-68BAFB892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73C2C-694F-415E-A11C-313A41FBC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11E93-7785-4AB4-8D2C-E5927BE78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E794B-A68D-4F4D-94B7-08FFD6B5D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13A7E-541F-452A-BA64-815E6462F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048A17-2F31-4F24-9722-378A646CA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23377F-1635-48E8-9452-EF8908CAB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DFE909-09A1-43A6-BF44-93E735860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8210CE-0E37-423B-AED1-7279ACDCB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D47E9F-7328-45A0-9682-99D7B1555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3660-8E29-4489-9407-107397AD0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572971-B8BF-4F86-838F-B62CA8BE6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797D75-BC52-4CA7-A01B-119E17D78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19D8ED-6842-46B1-88DC-38CCB6BC1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BB427C-EC34-4BAD-8792-031DFABA5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6E5983-5F22-4770-A94B-1728EE625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FFA5F0-5929-40F4-93AC-7E1CC6FF9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048BEA-E45E-4A1B-829D-AB71FDAAA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203F85-3263-4F59-A5D1-DD42C1252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2EAACF-62D1-4186-81A7-2FE8DEAB9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F1ED19-41F2-4FA0-A839-81E5D9AB9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122D-F88F-4963-ACDD-0ADF3B1AC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B197BB-27BB-445F-AFE5-0ECB2F2B7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9754AE-D52B-46E5-BC8D-32C8EB20D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5FDC8E-DA0F-4379-AD52-C7B3DC0AC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87EA0F-927E-4172-B8B6-0D811DC32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24E5E1-5BF2-4878-BE50-2DCF8B115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E46DE2-CB1D-482C-BB88-BA7D6E1C8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547D09-5834-4A9D-9318-D57DDA714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3BA229-E279-4F33-93FA-B2630DBA2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3C511C-0E63-4859-AD6A-CEB561DE4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40AB-5EAF-49EB-AD09-0F0D87B58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A386-EC62-4DB2-BD2B-3541BCA77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3E0E-FFB8-4C13-BF24-7C0C06C8B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D7BF-2565-42AE-8EEE-C47CCBC53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4E28-BA1C-4AA1-9E96-43D959138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ce0000">
                  <a:alpha val="45098"/>
                </a:srgbClr>
              </a:gs>
              <a:gs pos="100000">
                <a:srgbClr val="ffce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89a00">
                  <a:alpha val="45098"/>
                </a:srgbClr>
              </a:gs>
              <a:gs pos="100000">
                <a:srgbClr val="ff0000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ffc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c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ff000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ffc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fff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DD879-454E-4712-BF84-04C7A4DDF43E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ce0000">
                  <a:alpha val="45098"/>
                </a:srgbClr>
              </a:gs>
              <a:gs pos="100000">
                <a:srgbClr val="ffce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89a00">
                  <a:alpha val="45098"/>
                </a:srgbClr>
              </a:gs>
              <a:gs pos="100000">
                <a:srgbClr val="ff0000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ffc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c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ff000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ffc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fff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0B3B8-BB05-4781-8F12-10CBF2E3F1F5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ce0000">
                  <a:alpha val="45098"/>
                </a:srgbClr>
              </a:gs>
              <a:gs pos="100000">
                <a:srgbClr val="ffce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89a00">
                  <a:alpha val="45098"/>
                </a:srgbClr>
              </a:gs>
              <a:gs pos="100000">
                <a:srgbClr val="ff0000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ffc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c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ff000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ffc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fff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D370D-A181-4627-9544-3D403EEC58A0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ce0000">
                  <a:alpha val="45098"/>
                </a:srgbClr>
              </a:gs>
              <a:gs pos="100000">
                <a:srgbClr val="ffce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89a00">
                  <a:alpha val="45098"/>
                </a:srgbClr>
              </a:gs>
              <a:gs pos="100000">
                <a:srgbClr val="ff0000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ffc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c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ff000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ffc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fff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35CDD-5422-455B-A3F4-784579158722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By: Shelby Zelek, Caroline Buehl,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helsea Kovalcsik, and Theresa Sulminski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1" descr="Newspaper clipping from the Aitkin Independent Age"/>
          <p:cNvPicPr/>
          <p:nvPr/>
        </p:nvPicPr>
        <p:blipFill>
          <a:blip r:embed="rId1"/>
          <a:stretch/>
        </p:blipFill>
        <p:spPr>
          <a:xfrm>
            <a:off x="2743200" y="457200"/>
            <a:ext cx="4038480" cy="612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4" descr="Fort Snelling National Cemetery, Section MD, Site 130"/>
          <p:cNvPicPr/>
          <p:nvPr/>
        </p:nvPicPr>
        <p:blipFill>
          <a:blip r:embed="rId1"/>
          <a:stretch/>
        </p:blipFill>
        <p:spPr>
          <a:xfrm>
            <a:off x="1447920" y="304920"/>
            <a:ext cx="624816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bibliograph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ffc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ttp://stewthornley.net/hthornley_pow.htm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ffc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ttp://stewthornley.net/hthornley_bible.htm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ffc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ttp://www.ecclesgrammar.co.uk/Pictures/Miscellaneous/phil6.jp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ffc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ttp://www.cjfishlegacy.com/pow-mia.jp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ffc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ttp://ojc.org/adi/_borders/Viet_POW_2.JP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ffc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ffc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ffc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Howard Thornley Prisoner of War Photo"/>
          <p:cNvPicPr/>
          <p:nvPr/>
        </p:nvPicPr>
        <p:blipFill>
          <a:blip r:embed="rId1"/>
          <a:stretch/>
        </p:blipFill>
        <p:spPr>
          <a:xfrm>
            <a:off x="2438280" y="152280"/>
            <a:ext cx="4077000" cy="611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Stalag 17-B"/>
          <p:cNvPicPr/>
          <p:nvPr/>
        </p:nvPicPr>
        <p:blipFill>
          <a:blip r:embed="rId1"/>
          <a:stretch/>
        </p:blipFill>
        <p:spPr>
          <a:xfrm>
            <a:off x="1981080" y="533520"/>
            <a:ext cx="531828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http://stewthornley.net/b17crew.jpg"/>
          <p:cNvPicPr/>
          <p:nvPr/>
        </p:nvPicPr>
        <p:blipFill>
          <a:blip r:embed="rId1"/>
          <a:stretch/>
        </p:blipFill>
        <p:spPr>
          <a:xfrm>
            <a:off x="1828800" y="1143000"/>
            <a:ext cx="5686560" cy="43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2" descr="http://ojc.org/adi/_borders/Viet_POW_2.JPG"/>
          <p:cNvPicPr/>
          <p:nvPr/>
        </p:nvPicPr>
        <p:blipFill>
          <a:blip r:embed="rId1"/>
          <a:stretch/>
        </p:blipFill>
        <p:spPr>
          <a:xfrm>
            <a:off x="762120" y="609480"/>
            <a:ext cx="7010280" cy="555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http://www.cjfishlegacy.com/pow-mia.jpg"/>
          <p:cNvPicPr/>
          <p:nvPr/>
        </p:nvPicPr>
        <p:blipFill>
          <a:blip r:embed="rId1"/>
          <a:stretch/>
        </p:blipFill>
        <p:spPr>
          <a:xfrm>
            <a:off x="762120" y="1066680"/>
            <a:ext cx="714348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4" descr="Telegram to Howard Thornley's mom, informing her that Thornley was missing in action"/>
          <p:cNvPicPr/>
          <p:nvPr/>
        </p:nvPicPr>
        <p:blipFill>
          <a:blip r:embed="rId1"/>
          <a:stretch/>
        </p:blipFill>
        <p:spPr>
          <a:xfrm>
            <a:off x="990720" y="1295280"/>
            <a:ext cx="69800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http://www.ecclesgrammar.co.uk/Pictures/Miscellaneous/phil6.jpg"/>
          <p:cNvPicPr/>
          <p:nvPr/>
        </p:nvPicPr>
        <p:blipFill>
          <a:blip r:embed="rId1"/>
          <a:stretch/>
        </p:blipFill>
        <p:spPr>
          <a:xfrm>
            <a:off x="2057400" y="2057400"/>
            <a:ext cx="4857840" cy="29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http://stewthornley.net/bible.jpg"/>
          <p:cNvPicPr/>
          <p:nvPr/>
        </p:nvPicPr>
        <p:blipFill>
          <a:blip r:embed="rId1"/>
          <a:stretch/>
        </p:blipFill>
        <p:spPr>
          <a:xfrm>
            <a:off x="1219320" y="685800"/>
            <a:ext cx="721332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9T15:30:15Z</dcterms:created>
  <dc:creator>Installer</dc:creator>
  <dc:description/>
  <dc:language>en-US</dc:language>
  <cp:lastModifiedBy>Information Technology</cp:lastModifiedBy>
  <dcterms:modified xsi:type="dcterms:W3CDTF">2010-02-17T16:30:55Z</dcterms:modified>
  <cp:revision>28</cp:revision>
  <dc:subject/>
  <dc:title>John Mackowski</dc:title>
</cp:coreProperties>
</file>